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56B0-B90D-40E6-AD94-B628AA6B8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2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on 8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3774-874F-4F45-AC07-AF18EF85F1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02C-3649-4DC3-8AE3-65EB1811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7E5-F82F-4F7B-8475-2554C4EE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16C-7AA3-4BFF-A7EB-8E48E82D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96E-D93C-40B4-AFD4-0BB0DEF7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924D-0F6B-4D46-87DB-2CAD32BE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4D92-C09B-4D5D-A388-36208A75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C89A-5BC5-4284-964B-6D11C798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6079-8175-4F06-8DD2-D6BAE989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6AD3-AE7A-4281-BFC7-962A04A0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5CE1-105C-49F0-B11B-9E259D26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CC5A-7737-43DB-A2C4-999E33CD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B28-CE5C-4F16-8A97-E9667D8B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4BE3-24ED-4415-9CE2-00964E83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D4F0-D0F3-427B-8F98-61457F3B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E1DC-0B35-4242-A978-F66C2848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6D47-C67E-420F-9651-A81A30E7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422B-8135-492B-8546-473E3603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74CA1-089C-433F-A4BD-CD35A4CE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3002A-03EC-4377-94CE-E8F0274D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632DE-82F0-4F78-B415-9BED0BB0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00B3-BBD1-4DC1-9B15-268D22A7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5774E-2284-4D3B-9D48-0FA4A3ED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F12-73A8-480F-9A8D-EAE4BC9A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48B8A-B18A-4D16-9DB0-99AC272A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EA27-B369-444C-8B7E-35053CD5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6D611-7C20-4BA5-971D-BF9C26E3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997F0-30D4-4BF1-9BDB-B1589EEE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6FD4-33DF-4CAD-B20F-BDF44A5B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26D8-F2D1-4628-9C37-AEB788E8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A30D9-31CC-43C4-8A64-C1C614CB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959-F082-472A-9173-2607FD09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8F0-9FE2-4FAB-95BB-16D81D99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98A-DA18-4BBC-B8BF-66EEF883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CA5-F6B1-4C1D-BB4D-37475AB4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98F-A4CC-4AB8-8161-F0EBD014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64A-E94E-4343-B130-286D9805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9920" indent="-25992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31360" indent="-27144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791280" indent="-2599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1051560" indent="-25992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311480" indent="-25992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5" marL="1311480" indent="-25992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6" marL="1311480" indent="-25992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58827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867E-91AD-4209-8B73-B31CB4537A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5240" y="58827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5882760"/>
            <a:ext cx="685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8B72-73E0-4A00-A7B9-4B1EC5276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9920" indent="-25992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31360" indent="-27144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791280" indent="-2599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1051560" indent="-25992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311480" indent="-25992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5" marL="1311480" indent="-25992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6" marL="1311480" indent="-25992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732720" y="58827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0F5D-76FF-4447-8502-02F5C779A8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5240" y="58827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228920" y="5882760"/>
            <a:ext cx="685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859D-D40B-412B-9B75-BF08C74AD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9920" indent="-25992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31360" indent="-27144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791280" indent="-2599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1051560" indent="-25992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311480" indent="-25992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5" marL="1311480" indent="-25992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6" marL="1311480" indent="-25992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732720" y="58827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29A2-BEAF-4B81-B0A5-EF93850B603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55240" y="58827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228920" y="5882760"/>
            <a:ext cx="685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89E9-475E-4F88-9B8E-4504F964FB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onstantia"/>
              </a:rPr>
              <a:t>Financial Statements</a:t>
            </a:r>
            <a:endParaRPr b="1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Balance Sheet and Income Statemen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57200" y="2286000"/>
            <a:ext cx="83059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ll financial information must be reported to make good business decisions.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Businesses use Financial Statements to summarize, organize and report the company’s financial standing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nstantia"/>
              </a:rPr>
              <a:t>Income Statemen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1080" indent="-271080">
              <a:spcBef>
                <a:spcPts val="2001"/>
              </a:spcBef>
              <a:buSzPct val="102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Reports financial information over a fiscal period, indicating the financial progress of a business in earning a net loss or net incom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1080" indent="-271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1080" indent="-271080">
              <a:spcBef>
                <a:spcPts val="2001"/>
              </a:spcBef>
              <a:buSzPct val="102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e revenue earned and the expenses incurred to earn the revenue must be reported in the same fiscal period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1080" indent="-27108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Sections of th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Income Statemen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13372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nstantia"/>
              </a:rPr>
              <a:t>1.) Heading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nstantia"/>
              </a:rPr>
              <a:t>2.) Revenue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nstantia"/>
              </a:rPr>
              <a:t>3.) Expenses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nstantia"/>
              </a:rPr>
              <a:t>4.) Net Income or Net Loss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231040" cy="15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INCOME STATEMENT INFORMATION ON A WORK SHEET</a:t>
            </a:r>
            <a:endParaRPr b="1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Picture 3" descr="D:\C21 PowerPoint\Multi_Journal\art for blue\Ch08\Ch08-01a.jpg"/>
          <p:cNvPicPr/>
          <p:nvPr/>
        </p:nvPicPr>
        <p:blipFill>
          <a:blip r:embed="rId2"/>
          <a:srcRect l="9774" t="11660" r="0" b="43509"/>
          <a:stretch/>
        </p:blipFill>
        <p:spPr>
          <a:xfrm>
            <a:off x="457200" y="2209680"/>
            <a:ext cx="8226360" cy="3533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8-1, page 1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HEADING OF AN INCOME STATEMENT</a:t>
            </a:r>
            <a:endParaRPr b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1" name="Picture 3" descr="D:\C21 PowerPoint\Multi_Journal\art for blue\Ch08\Ch08-01b.jpg"/>
          <p:cNvPicPr/>
          <p:nvPr/>
        </p:nvPicPr>
        <p:blipFill>
          <a:blip r:embed="rId2"/>
          <a:srcRect l="42863" t="0" r="0" b="82033"/>
          <a:stretch/>
        </p:blipFill>
        <p:spPr>
          <a:xfrm>
            <a:off x="457200" y="2209680"/>
            <a:ext cx="8229600" cy="2314800"/>
          </a:xfrm>
          <a:prstGeom prst="rect">
            <a:avLst/>
          </a:prstGeom>
          <a:ln w="0">
            <a:noFill/>
          </a:ln>
        </p:spPr>
      </p:pic>
      <p:sp>
        <p:nvSpPr>
          <p:cNvPr id="142" name="Oval 4"/>
          <p:cNvSpPr/>
          <p:nvPr/>
        </p:nvSpPr>
        <p:spPr>
          <a:xfrm>
            <a:off x="2590920" y="25146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990720" y="3581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790640" y="30481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14440" y="523404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e of Re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14440" y="44956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Name of Compa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14440" y="4861080"/>
            <a:ext cx="39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me of Re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7429320" y="723816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8-1, page 1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3104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nstantia"/>
              </a:rPr>
              <a:t>PREPARING THE INCOME STATEMENT</a:t>
            </a:r>
            <a:endParaRPr b="1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0" name="Picture 3" descr="D:\C21 PowerPoint\Multi_Journal\art for blue\Ch08\Ch08-01c.jpg"/>
          <p:cNvPicPr/>
          <p:nvPr/>
        </p:nvPicPr>
        <p:blipFill>
          <a:blip r:embed="rId2"/>
          <a:srcRect l="26650" t="0" r="0" b="48231"/>
          <a:stretch/>
        </p:blipFill>
        <p:spPr>
          <a:xfrm>
            <a:off x="457200" y="1143000"/>
            <a:ext cx="660888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228600" y="4343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e the name of the first sec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28600" y="464832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e the title of the  revenue accou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28600" y="495288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rd the balance of the accou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228600" y="52578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e the name of the second sec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28600" y="556272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e the title of each expense accou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24"/>
          <p:cNvSpPr/>
          <p:nvPr/>
        </p:nvSpPr>
        <p:spPr>
          <a:xfrm>
            <a:off x="380880" y="25909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Oval 25"/>
          <p:cNvSpPr/>
          <p:nvPr/>
        </p:nvSpPr>
        <p:spPr>
          <a:xfrm>
            <a:off x="380880" y="14479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26"/>
          <p:cNvSpPr/>
          <p:nvPr/>
        </p:nvSpPr>
        <p:spPr>
          <a:xfrm>
            <a:off x="6324480" y="16765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27"/>
          <p:cNvSpPr/>
          <p:nvPr/>
        </p:nvSpPr>
        <p:spPr>
          <a:xfrm>
            <a:off x="380880" y="19051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28"/>
          <p:cNvSpPr/>
          <p:nvPr/>
        </p:nvSpPr>
        <p:spPr>
          <a:xfrm>
            <a:off x="1295280" y="16765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29"/>
          <p:cNvSpPr/>
          <p:nvPr/>
        </p:nvSpPr>
        <p:spPr>
          <a:xfrm>
            <a:off x="4952880" y="3809880"/>
            <a:ext cx="30492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31"/>
          <p:cNvSpPr/>
          <p:nvPr/>
        </p:nvSpPr>
        <p:spPr>
          <a:xfrm>
            <a:off x="533520" y="3581280"/>
            <a:ext cx="30456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32"/>
          <p:cNvSpPr/>
          <p:nvPr/>
        </p:nvSpPr>
        <p:spPr>
          <a:xfrm>
            <a:off x="6324480" y="35053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33"/>
          <p:cNvSpPr/>
          <p:nvPr/>
        </p:nvSpPr>
        <p:spPr>
          <a:xfrm>
            <a:off x="4038480" y="3429000"/>
            <a:ext cx="30492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36"/>
          <p:cNvSpPr/>
          <p:nvPr/>
        </p:nvSpPr>
        <p:spPr>
          <a:xfrm>
            <a:off x="6324480" y="39625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Oval 37"/>
          <p:cNvSpPr/>
          <p:nvPr/>
        </p:nvSpPr>
        <p:spPr>
          <a:xfrm>
            <a:off x="4038480" y="39625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38"/>
          <p:cNvSpPr/>
          <p:nvPr/>
        </p:nvSpPr>
        <p:spPr>
          <a:xfrm>
            <a:off x="1676520" y="3886200"/>
            <a:ext cx="30456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1"/>
          <p:cNvSpPr/>
          <p:nvPr/>
        </p:nvSpPr>
        <p:spPr>
          <a:xfrm>
            <a:off x="228600" y="586728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rd the balance of each accou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2"/>
          <p:cNvSpPr/>
          <p:nvPr/>
        </p:nvSpPr>
        <p:spPr>
          <a:xfrm>
            <a:off x="228600" y="61722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le a single li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3"/>
          <p:cNvSpPr/>
          <p:nvPr/>
        </p:nvSpPr>
        <p:spPr>
          <a:xfrm>
            <a:off x="4572000" y="43434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Total Expens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4"/>
          <p:cNvSpPr/>
          <p:nvPr/>
        </p:nvSpPr>
        <p:spPr>
          <a:xfrm>
            <a:off x="4572000" y="46483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rd total expen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5"/>
          <p:cNvSpPr/>
          <p:nvPr/>
        </p:nvSpPr>
        <p:spPr>
          <a:xfrm>
            <a:off x="4419720" y="49528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lculate net incom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4419720" y="52578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le a single li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7"/>
          <p:cNvSpPr/>
          <p:nvPr/>
        </p:nvSpPr>
        <p:spPr>
          <a:xfrm>
            <a:off x="4419720" y="556272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et Inco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48"/>
          <p:cNvSpPr/>
          <p:nvPr/>
        </p:nvSpPr>
        <p:spPr>
          <a:xfrm>
            <a:off x="4419720" y="58672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rd net incom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9"/>
          <p:cNvSpPr/>
          <p:nvPr/>
        </p:nvSpPr>
        <p:spPr>
          <a:xfrm>
            <a:off x="4419720" y="6172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le double lin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5286240" y="2333520"/>
            <a:ext cx="352440" cy="1219320"/>
            <a:chOff x="5286240" y="2333520"/>
            <a:chExt cx="352440" cy="1219320"/>
          </a:xfrm>
        </p:grpSpPr>
        <p:sp>
          <p:nvSpPr>
            <p:cNvPr id="178" name="Freeform 50"/>
            <p:cNvSpPr/>
            <p:nvPr/>
          </p:nvSpPr>
          <p:spPr>
            <a:xfrm>
              <a:off x="5286240" y="2333520"/>
              <a:ext cx="228600" cy="1219320"/>
            </a:xfrm>
            <a:prstGeom prst="pie">
              <a:avLst/>
            </a:pr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Oval 30"/>
            <p:cNvSpPr/>
            <p:nvPr/>
          </p:nvSpPr>
          <p:spPr>
            <a:xfrm>
              <a:off x="5334120" y="2666880"/>
              <a:ext cx="304560" cy="30492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292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Group 53"/>
          <p:cNvGrpSpPr/>
          <p:nvPr/>
        </p:nvGrpSpPr>
        <p:grpSpPr>
          <a:xfrm>
            <a:off x="6400800" y="3716280"/>
            <a:ext cx="698400" cy="304920"/>
            <a:chOff x="6400800" y="3716280"/>
            <a:chExt cx="698400" cy="304920"/>
          </a:xfrm>
        </p:grpSpPr>
        <p:sp>
          <p:nvSpPr>
            <p:cNvPr id="181" name="Line 52"/>
            <p:cNvSpPr/>
            <p:nvPr/>
          </p:nvSpPr>
          <p:spPr>
            <a:xfrm flipH="1">
              <a:off x="6400800" y="3886200"/>
              <a:ext cx="45720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Oval 35"/>
            <p:cNvSpPr/>
            <p:nvPr/>
          </p:nvSpPr>
          <p:spPr>
            <a:xfrm>
              <a:off x="6794640" y="3716280"/>
              <a:ext cx="304560" cy="30492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292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Text Box 54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8-1, page 18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nstantia"/>
              </a:rPr>
              <a:t>COMPONENT PERCENTAGE ANALYSIS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Constantia"/>
              </a:rPr>
              <a:t> OF AN INCOME STATEMENT</a:t>
            </a:r>
            <a:endParaRPr b="1" lang="en-US" sz="3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Picture 4" descr="D:\C21 PowerPoint\Multi_Journal\art for blue\Ch08\Ch08-01d.jpg"/>
          <p:cNvPicPr/>
          <p:nvPr/>
        </p:nvPicPr>
        <p:blipFill>
          <a:blip r:embed="rId2"/>
          <a:srcRect l="14817" t="0" r="0" b="52496"/>
          <a:stretch/>
        </p:blipFill>
        <p:spPr>
          <a:xfrm>
            <a:off x="457200" y="1905120"/>
            <a:ext cx="6635880" cy="4365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8-1, page 18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omponent Percentages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471240" y="4038480"/>
            <a:ext cx="2606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ff"/>
                </a:solidFill>
                <a:uFillTx/>
                <a:latin typeface="Times New Roman"/>
              </a:rPr>
              <a:t>Net Income %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52280" y="1981080"/>
            <a:ext cx="8991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Times New Roman"/>
              </a:rPr>
              <a:t>Total Expenses %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Total Expenses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   Total Sales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 Total Expense % 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Division 4"/>
          <p:cNvGrpSpPr/>
          <p:nvPr/>
        </p:nvGrpSpPr>
        <p:grpSpPr>
          <a:xfrm>
            <a:off x="2882880" y="2955960"/>
            <a:ext cx="628560" cy="635040"/>
            <a:chOff x="2882880" y="2955960"/>
            <a:chExt cx="628560" cy="635040"/>
          </a:xfrm>
        </p:grpSpPr>
        <p:pic>
          <p:nvPicPr>
            <p:cNvPr id="191" name="Division 4" descr=""/>
            <p:cNvPicPr/>
            <p:nvPr/>
          </p:nvPicPr>
          <p:blipFill>
            <a:blip r:embed="rId2"/>
            <a:stretch/>
          </p:blipFill>
          <p:spPr>
            <a:xfrm>
              <a:off x="2882880" y="2955960"/>
              <a:ext cx="628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032280" y="3222720"/>
              <a:ext cx="3362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Equal 5"/>
          <p:cNvGrpSpPr/>
          <p:nvPr/>
        </p:nvGrpSpPr>
        <p:grpSpPr>
          <a:xfrm>
            <a:off x="5473800" y="3029040"/>
            <a:ext cx="628560" cy="415800"/>
            <a:chOff x="5473800" y="3029040"/>
            <a:chExt cx="628560" cy="415800"/>
          </a:xfrm>
        </p:grpSpPr>
        <p:pic>
          <p:nvPicPr>
            <p:cNvPr id="194" name="Equal 5" descr=""/>
            <p:cNvPicPr/>
            <p:nvPr/>
          </p:nvPicPr>
          <p:blipFill>
            <a:blip r:embed="rId3"/>
            <a:stretch/>
          </p:blipFill>
          <p:spPr>
            <a:xfrm>
              <a:off x="5473800" y="3029040"/>
              <a:ext cx="6285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622840" y="3171960"/>
              <a:ext cx="3366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Division 6"/>
          <p:cNvGrpSpPr/>
          <p:nvPr/>
        </p:nvGrpSpPr>
        <p:grpSpPr>
          <a:xfrm>
            <a:off x="2577960" y="4937040"/>
            <a:ext cx="628920" cy="635040"/>
            <a:chOff x="2577960" y="4937040"/>
            <a:chExt cx="628920" cy="635040"/>
          </a:xfrm>
        </p:grpSpPr>
        <p:pic>
          <p:nvPicPr>
            <p:cNvPr id="197" name="Division 6" descr=""/>
            <p:cNvPicPr/>
            <p:nvPr/>
          </p:nvPicPr>
          <p:blipFill>
            <a:blip r:embed="rId4"/>
            <a:stretch/>
          </p:blipFill>
          <p:spPr>
            <a:xfrm>
              <a:off x="2577960" y="4937040"/>
              <a:ext cx="62892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727360" y="5203800"/>
              <a:ext cx="3366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Equal 7"/>
          <p:cNvGrpSpPr/>
          <p:nvPr/>
        </p:nvGrpSpPr>
        <p:grpSpPr>
          <a:xfrm>
            <a:off x="5168880" y="5084640"/>
            <a:ext cx="628560" cy="414360"/>
            <a:chOff x="5168880" y="5084640"/>
            <a:chExt cx="628560" cy="414360"/>
          </a:xfrm>
        </p:grpSpPr>
        <p:pic>
          <p:nvPicPr>
            <p:cNvPr id="200" name="Equal 7" descr=""/>
            <p:cNvPicPr/>
            <p:nvPr/>
          </p:nvPicPr>
          <p:blipFill>
            <a:blip r:embed="rId5"/>
            <a:stretch/>
          </p:blipFill>
          <p:spPr>
            <a:xfrm>
              <a:off x="5168880" y="5084640"/>
              <a:ext cx="6285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318280" y="5229360"/>
              <a:ext cx="3362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Rectangle 8"/>
          <p:cNvSpPr/>
          <p:nvPr/>
        </p:nvSpPr>
        <p:spPr>
          <a:xfrm>
            <a:off x="-152280" y="4952880"/>
            <a:ext cx="89154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Net Income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   Total Sales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 Total Income % 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nstantia"/>
              </a:rPr>
              <a:t>INCOME STATEMENT WITH TWO SOURCES OF REVENUE AND A NET LOSS</a:t>
            </a:r>
            <a:endParaRPr b="1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3" descr="D:\C21 PowerPoint\Multi_Journal\art for blue\Ch08\Ch08-01e.jpg"/>
          <p:cNvPicPr/>
          <p:nvPr/>
        </p:nvPicPr>
        <p:blipFill>
          <a:blip r:embed="rId2"/>
          <a:srcRect l="16338" t="0" r="5501" b="44150"/>
          <a:stretch/>
        </p:blipFill>
        <p:spPr>
          <a:xfrm>
            <a:off x="2936880" y="2163600"/>
            <a:ext cx="5749920" cy="376416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7238880" y="345924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2971800" y="28494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4343400" y="387504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8551800" y="38401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2743200" y="35352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8600" y="30542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enue Am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28600" y="23162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even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28600" y="34178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of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228600" y="2681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 Tit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Oval 13"/>
          <p:cNvSpPr/>
          <p:nvPr/>
        </p:nvSpPr>
        <p:spPr>
          <a:xfrm>
            <a:off x="2629080" y="528804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Oval 14"/>
          <p:cNvSpPr/>
          <p:nvPr/>
        </p:nvSpPr>
        <p:spPr>
          <a:xfrm>
            <a:off x="7508880" y="574524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228600" y="4525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rd Net Lo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228600" y="3787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tal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228600" y="415296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et Lo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7429320" y="71920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8-1, page 1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20:11:45Z</dcterms:created>
  <dc:creator>Mary Colleen McLaughlin</dc:creator>
  <dc:description/>
  <dc:language>en-US</dc:language>
  <cp:lastModifiedBy>David Combs</cp:lastModifiedBy>
  <cp:lastPrinted>1999-03-31T02:09:22Z</cp:lastPrinted>
  <dcterms:modified xsi:type="dcterms:W3CDTF">2012-11-26T16:48:21Z</dcterms:modified>
  <cp:revision>39</cp:revision>
  <dc:subject/>
  <dc:title>THE ACCOUNTING EQUATION</dc:title>
</cp:coreProperties>
</file>